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8D988-8B51-4D22-A86E-0ADDFE718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B455E-9D41-48A0-A592-2642E0461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C53A003-9957-4C54-91B9-1EA6F20B8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169A671-1863-47CE-9526-81DD4D3EE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BF78402-63E4-48EF-A41B-F0B6BA76D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69D3D5F-3BC0-464E-9BBA-F0A9F272E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B802705-C59A-49CF-AE38-81F773A49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4AB4649-5C14-4622-91FC-FB9CE73DF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E76AECE-8B5E-4DAA-824E-E8097D915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A6F7319-0DFD-452C-9612-4A143560F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9BAEAAB-77D9-47E0-975E-1DFCF7BD6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C1261AB-C000-4AE1-B438-0B829CBD1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4FBA8-2032-4230-9D6B-8FC8DDBBD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A356C55-E305-4972-B52A-2F2C41DAD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8223D5B-EBFD-4EF6-991F-DF3EBAFE7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4F5848C-B0C8-450E-8658-FDA43739C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D0BDEDD-706F-46F1-8219-43E00F3FA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2B98915-823A-4C82-BF99-A2DC25A81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162EA82-C6F6-4DB8-9FE2-BE7996FF2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DC584A5-01BE-4DAF-912C-867267CC3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47B97DD-0150-40B4-BF04-AD6DE4BDB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136EF13-15E5-4370-9C7A-CCF7D8635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8949184-D316-4EA4-99F9-5B54B7619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BDC2B-FA63-4050-ADD1-529C38D7E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41496EA-0C2B-466E-BA55-CEC1DBCC1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9DE327-74E2-461E-AF40-15CBACD92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A7ADC6-0AB7-490C-A029-41C5439F0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4E9C7A-69FC-4C3D-BD57-A49F9C3D6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C173A4-396E-4DBC-B090-5C0E482B8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28B9C5-D82A-4768-A32C-FE2A5CBCF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538E8B-E7C3-4B77-97E0-025850FB3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25E1DD-81A0-4F19-B9A3-D821034A6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2C47D0-4388-4430-836A-C63FCE962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FBBEF4-88B9-404B-A5B7-850B3B51B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FCC8F-77E3-4F8A-9992-D01CA1673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0F5259-C2BC-4D0F-A56F-81E04F666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B07656-921C-4B49-8DF9-E474C9EB7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6B9670-86AC-4F46-BFCC-BDA4B4C61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3E0C749-AC5D-4476-A6BC-DB6C654E0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B25AC2A-0C4E-41F9-BDF5-18859F3B2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13E4C44-2A4C-4C20-8F60-AA42C4862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F5F7675-C1E5-4C65-B31A-8FFFF4A9D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A1F95F7-C6AB-4BE6-B95A-FEE789BCB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23E634C-9519-4F59-90D0-38B8BE7D5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B4C0F27-BF63-487A-892E-71E31717A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A7576-F6E5-4DC4-8D61-2A2C058D5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8FDB25D-06E2-452F-8792-A5FD8D0B3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8ACD3B1-69CA-4760-9C87-5CB02E1B2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F59FA95-A90A-47BE-B054-BA663428C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D7C8633-6829-4AB2-83C6-D17928925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F02322F-E6F7-4C24-8DAA-623152CC4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857D4-0B83-4634-AF1D-463EE858E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42D72-1E47-463C-9424-52B224759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2C91D-1F6E-4173-8969-D58CD0374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C2C25-02C3-4C52-881F-5F07105BE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84C23-9001-4444-B56B-BBFE60572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DA88B-3663-49A6-A96C-65050CA0B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09D90-54DD-4F8A-8283-8D4456A05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A1E59-E272-4B7F-89FB-EE496D9BD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2BEB0-5445-4F76-8B1C-7B1AFD4E1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A8342-0137-4112-A8C2-A0B5CFC44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CB152-F805-4B40-B08A-8B4470D79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79479D-3E1F-47BC-9340-CBDD99F25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B4A930-0D68-4F9E-9875-D687FA1FD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334C5B-EEFD-4FC6-9F7B-B4484A5A4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E9F2F2-9F8C-4FF8-A1B4-AA88BBA04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CAC796-4F45-4DC5-981D-F9A4402D2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59099-D492-4AFE-8A50-8D3E90B1B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454B27-5216-494C-816F-465ACD536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8B4861-65EF-4D30-8848-4D5A39108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C551CB-C466-40E0-9964-F8FF2AA2B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E0AC9A-2D22-47FC-AACB-9B5865E01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788849-5868-4BBC-8E36-CACA0F272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907A26-94E4-4E02-AF04-C674B40BC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1F361A-E888-42F2-A506-8B2AB82BE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A1D185-1FF9-4C3A-B8FD-26300C808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AA1C45-66AE-42E7-BBB7-A3E5F8EB2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F0439E-3D70-46F1-B9AC-D39561980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A2B01-74D6-4444-93FB-8F821061B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FA60B9-DD2C-4EC9-BB58-DAEA7384E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CB87E7-5870-4283-9041-ACAFE6461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69CBE5-82C1-407A-BA9D-BD58CC74B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E08E24-9EC5-4526-B8CD-014052E9C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94A307-A013-46F1-94F5-63FE41E43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3586AC-5A4B-40DB-A262-434B5CA75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D3076C-7B7A-422D-B337-FD810A922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316B76-DE45-4A4C-A803-9E546A192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A26AB3-C255-4B8E-9505-D4E34D3B1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F5E0C6-C5F0-4474-86B3-E49C59BA1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CA015-C062-419A-B958-F0AF5D33D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210B1E-4480-4D44-8480-F413B4CE4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C67A25-FCA4-4444-A618-3E6E77C91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709B76-ECA8-4712-AF95-3E11D9225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EB2EBE-F3C3-481E-9D5B-E35F18997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CFA4CC-0342-4328-BE03-126C2C33C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053117-ACBD-49E6-9A40-E1EAB75B0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10575D-C1E7-4547-BC63-B27F1097D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644393-61AA-4DB8-AF1C-62B76085A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DE01CF-8F1A-4CB7-A216-F3B470124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9866BF-E057-49D0-B187-8CD08E176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6980D-0375-4DCA-8A1E-D5A886F50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C789CF-AF6E-4247-8DC9-E0CFF831D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89F42A-869A-439D-B2D5-E77236D8F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E08D1F-2F26-4C5C-836B-F52CCD8A4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DAA290-B9B8-4756-AF12-2AEE8C78C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0CC799-FE2E-4494-A23F-4AFF1996E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EE513C-2C7A-4327-B4E0-5BCE63BFE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3353D9-241F-47E4-A639-A193F0D1B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86DCD9-B54D-4404-9562-2F4438EBC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3DE8D7-7BCB-48F5-BE27-21AFDD72B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B22F28-2898-466C-B9A7-62A5FF1F7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725F8-B01F-4051-86E9-C84A3F05A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C156F4-667E-4BB5-AFD2-660A8E53A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6F5E30-95F0-4433-A242-27BAE5222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EDB92F-D3E2-4E0D-ACEF-34666A45F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3FCA5E-22B0-4EE4-9D4E-F0A046FFC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8E65FB-5A05-4B60-BFF6-36A274F0F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372F9D-7ADE-4424-93EC-E86390EA3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2962F5-1BD8-477D-9A0D-9994E67D7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9B9100-F92B-4A8D-9A8F-99A819E55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F24A90-8299-47F9-8651-E1B03D2C7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800292-5BCC-4CEE-B2A6-929F0A059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26903-5259-4F4E-883C-791ED2D8A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4A3E9B-F5C6-4F71-B424-98F741759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15F39F-7DF9-4B5F-ABB7-F3B8CE772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AF2083-C56E-4833-AAAF-4D326E4C7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0AF33D-B4BF-42E7-B37B-B37AA3BEC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D8A65D-5686-4DDC-ACD4-990E28279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8B169A-45CA-4C85-BF56-45533EA1C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E03D36-E3C4-41AD-AC1C-1CD1E09DF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506B35-13F6-4AE2-B955-9F87301BA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BE4C84-1EFE-47AE-BAF3-B380E68B9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4FC0DF-9A79-4D26-8FFD-7B3592917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B9499-3C35-421A-BA39-AD5A5AFF2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F00B82-A572-4993-B49C-5DB3E7A77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0AB040-469C-4C26-A2F8-AD63C9FEB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2C3D2E-96F2-4519-80FE-22DB0F92F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1F8AAC-22D8-4E8C-A9AD-609E30B7F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CDBEE9-B0F6-4E4C-9F74-C0FEC353F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FD2734-F585-48F7-B3CD-25CEA554B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7F65B7-5337-408E-9F49-4323EDB68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A89041F-78A8-4DFF-88CD-E208EFD2F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2963F23-4C2B-4678-986A-0FA09CF94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3266186-CED0-47BC-9A49-E49973648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43580-1A6E-4BDD-8A85-4DE5296AF712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Straight Connector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25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2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Oval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Oval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89263-346B-40FB-9DD6-4A7728771A31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85FC2-51B3-4931-A823-1D0BDC84933B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tangle 21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25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Straight Connector 26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Oval 27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Oval 28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DE32A-24C0-43D6-8692-FC37054940D4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21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23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27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18DC4-A2A2-4F60-B55B-179C13A1F572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B0616-49FD-43C4-A44A-91D4D636BF42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21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23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24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25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26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28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29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30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D987E-D7B6-4752-9EF6-24CA9B9134FC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traight Connector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55167-3246-4E24-B936-784EDFEA6ECF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traight Connector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21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24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25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26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27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l 29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l 30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320FB-ECF2-4AAA-82E7-8478112FE3BC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CC768-926C-43B9-B282-D72F1B2FE470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25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8979B-7C1B-42FD-83FA-C11165C4DFED}" type="slidenum">
              <a:rPr b="0" lang="en-US" sz="16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23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25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Straight Connector 27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Oval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Oval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6D5A5-6DD8-40FD-A254-BE801FCE203F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646b86"/>
                </a:solidFill>
                <a:latin typeface="Georgia"/>
              </a:rPr>
              <a:t>TWO SIDES TO THE SAME ARGUMEN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d16349"/>
                </a:solidFill>
                <a:latin typeface="Georgia"/>
              </a:rPr>
              <a:t>The Big Debate</a:t>
            </a:r>
            <a:endParaRPr b="0" lang="en-US" sz="42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7b9899"/>
                </a:solidFill>
                <a:latin typeface="Georgia"/>
              </a:rPr>
              <a:t>Summary of An Inconvenient Truth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orgia"/>
              </a:rPr>
              <a:t>Global warming is caused by the greenhouse effect from man-made carbon dioxide in the atmosphere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orgia"/>
              </a:rPr>
              <a:t>The evidence is found in ice-core samples, dating back 650,000 years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orgia"/>
              </a:rPr>
              <a:t>It shows that when Carbon Dioxide levels increase, temperature increases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orgia"/>
              </a:rPr>
              <a:t>There is no disagreement between scientists, only in the popular press that Carbon Dioxide is linked to climate change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0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0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Georgia"/>
              </a:rPr>
              <a:t>If this theory was the only one available to you, what would you think causes global warming?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7b9899"/>
                </a:solidFill>
                <a:latin typeface="Georgia"/>
              </a:rPr>
              <a:t>The Great Global Warming Swindl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32" name="Content Placeholder 4" descr="images.jpg"/>
          <p:cNvPicPr/>
          <p:nvPr/>
        </p:nvPicPr>
        <p:blipFill>
          <a:blip r:embed="rId1"/>
          <a:stretch/>
        </p:blipFill>
        <p:spPr>
          <a:xfrm>
            <a:off x="642960" y="1571760"/>
            <a:ext cx="3286080" cy="4593960"/>
          </a:xfrm>
          <a:prstGeom prst="rect">
            <a:avLst/>
          </a:prstGeom>
          <a:ln w="0">
            <a:noFill/>
          </a:ln>
        </p:spPr>
      </p:pic>
      <p:sp>
        <p:nvSpPr>
          <p:cNvPr id="633" name=""/>
          <p:cNvSpPr txBox="1"/>
          <p:nvPr/>
        </p:nvSpPr>
        <p:spPr>
          <a:xfrm>
            <a:off x="4800600" y="1371600"/>
            <a:ext cx="403848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Georgia"/>
              </a:rPr>
              <a:t>This theory states that: -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Georgia"/>
              </a:rPr>
              <a:t>“</a:t>
            </a:r>
            <a:r>
              <a:rPr b="0" lang="en-GB" sz="2500" spc="-1" strike="noStrike">
                <a:solidFill>
                  <a:srgbClr val="000000"/>
                </a:solidFill>
                <a:latin typeface="Georgia"/>
              </a:rPr>
              <a:t>Global warming is caused by solar activity which deflects cosmic rays from earth and decreases cloud cover”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7b9899"/>
                </a:solidFill>
                <a:latin typeface="Georgia"/>
              </a:rPr>
              <a:t>Clouds and Cosmic Ray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35" name="GGWS clouds &amp; cosmic rays cartoon.wmv" descr=""/>
          <p:cNvPicPr/>
          <p:nvPr/>
        </p:nvPicPr>
        <p:blipFill>
          <a:blip r:embed="rId1"/>
          <a:stretch/>
        </p:blipFill>
        <p:spPr>
          <a:xfrm>
            <a:off x="142920" y="1614600"/>
            <a:ext cx="8858160" cy="48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restart="whenNotActive" nodeType="interactiveSeq" fill="hold">
                <p:stCondLst>
                  <p:cond evt="onClick">
                    <p:tgtEl>
                      <p:spTgt spid="635"/>
                    </p:tgtEl>
                  </p:cond>
                </p:stCondLst>
                <p:childTnLst>
                  <p:par>
                    <p:cTn id="87" fill="hold">
                      <p:stCondLst>
                        <p:cond evt="onClick">
                          <p:tgtEl>
                            <p:spTgt spid="635"/>
                          </p:tgtEl>
                        </p:cond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90" dur="1" fill="hold"/>
                                        <p:tgtEl>
                                          <p:spTgt spid="6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7b9899"/>
                </a:solidFill>
                <a:latin typeface="Georgia"/>
              </a:rPr>
              <a:t>Activity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7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0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Georgia"/>
              </a:rPr>
              <a:t>Sort the cards in front of you to explain global warming by solar activity.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7b9899"/>
                </a:solidFill>
                <a:latin typeface="Georgia"/>
              </a:rPr>
              <a:t>Temperature vs Solar Activity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39" name="GGWS Temp vs Solar Activity.wmv" descr=""/>
          <p:cNvPicPr/>
          <p:nvPr/>
        </p:nvPicPr>
        <p:blipFill>
          <a:blip r:embed="rId1"/>
          <a:stretch/>
        </p:blipFill>
        <p:spPr>
          <a:xfrm>
            <a:off x="142920" y="1571760"/>
            <a:ext cx="8858160" cy="48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restart="whenNotActive" nodeType="interactiveSeq" fill="hold">
                <p:stCondLst>
                  <p:cond evt="onClick">
                    <p:tgtEl>
                      <p:spTgt spid="639"/>
                    </p:tgtEl>
                  </p:cond>
                </p:stCondLst>
                <p:childTnLst>
                  <p:par>
                    <p:cTn id="93" fill="hold">
                      <p:stCondLst>
                        <p:cond evt="onClick">
                          <p:tgtEl>
                            <p:spTgt spid="639"/>
                          </p:tgtEl>
                        </p:cond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96" dur="1" fill="hold"/>
                                        <p:tgtEl>
                                          <p:spTgt spid="6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7b9899"/>
                </a:solidFill>
                <a:latin typeface="Georgia"/>
              </a:rPr>
              <a:t>Carbon Dioxide Lags Temperatur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41" name="GGWS CO2 lags temp.wmv" descr=""/>
          <p:cNvPicPr/>
          <p:nvPr/>
        </p:nvPicPr>
        <p:blipFill>
          <a:blip r:embed="rId1"/>
          <a:stretch/>
        </p:blipFill>
        <p:spPr>
          <a:xfrm>
            <a:off x="142920" y="1614600"/>
            <a:ext cx="8858160" cy="48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restart="whenNotActive" nodeType="interactiveSeq" fill="hold">
                <p:stCondLst>
                  <p:cond evt="onClick">
                    <p:tgtEl>
                      <p:spTgt spid="641"/>
                    </p:tgtEl>
                  </p:cond>
                </p:stCondLst>
                <p:childTnLst>
                  <p:par>
                    <p:cTn id="99" fill="hold">
                      <p:stCondLst>
                        <p:cond evt="onClick">
                          <p:tgtEl>
                            <p:spTgt spid="641"/>
                          </p:tgtEl>
                        </p:cond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02" dur="1" fill="hold"/>
                                        <p:tgtEl>
                                          <p:spTgt spid="6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7b9899"/>
                </a:solidFill>
                <a:latin typeface="Georgia"/>
              </a:rPr>
              <a:t>Temperature vs CO2 and Solar Activity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43" name="GGWS Temp vs CO2 and Solar Activity.wmv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8858160" cy="47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restart="whenNotActive" nodeType="interactiveSeq" fill="hold">
                <p:stCondLst>
                  <p:cond evt="onClick">
                    <p:tgtEl>
                      <p:spTgt spid="643"/>
                    </p:tgtEl>
                  </p:cond>
                </p:stCondLst>
                <p:childTnLst>
                  <p:par>
                    <p:cTn id="105" fill="hold">
                      <p:stCondLst>
                        <p:cond evt="onClick">
                          <p:tgtEl>
                            <p:spTgt spid="643"/>
                          </p:tgtEl>
                        </p:cond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08" dur="1" fill="hold"/>
                                        <p:tgtEl>
                                          <p:spTgt spid="6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7b9899"/>
                </a:solidFill>
                <a:latin typeface="Georgia"/>
              </a:rPr>
              <a:t>Summary of the Great Global Warming Swindle</a:t>
            </a:r>
            <a:endParaRPr b="0" lang="en-US" sz="3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5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orgia"/>
              </a:rPr>
              <a:t>Global warming is caused by solar activity which deflects cosmic rays from earth and decreases cloud cover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orgia"/>
              </a:rPr>
              <a:t>When solar activity is high, temperature increases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orgia"/>
              </a:rPr>
              <a:t>The ice-core records show that Carbon Dioxide lags temperature by 800 years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orgia"/>
              </a:rPr>
              <a:t>There is a direct relationship between temperature change and solar activity, but no real relationship between carbon dioxide and temperature change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6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6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6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7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0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Georgia"/>
              </a:rPr>
              <a:t>If this theory was the only one available to you, what would you think causes global warming?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10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7b9899"/>
                </a:solidFill>
                <a:latin typeface="Georgia"/>
              </a:rPr>
              <a:t>Why are we doing this?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orgia"/>
              </a:rPr>
              <a:t>Scientists do not always have the answers, and scientific data can be interpreted in a number of ways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orgia"/>
              </a:rPr>
              <a:t>Global warming is a hotly debated topic, taking up many column inches every year in the popular press and in scientific journals, but there seems to be a disagreement about the facts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orgia"/>
              </a:rPr>
              <a:t>We are going to look at two arguments made on the causes of global warming, and see if we can make our own minds up on what one to believe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7b9899"/>
                </a:solidFill>
                <a:latin typeface="Georgia"/>
              </a:rPr>
              <a:t>Ongoing Activity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0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Georgia"/>
              </a:rPr>
              <a:t>Throughout these video clips, make notes on the worksheet provided of anything you feel is relevant.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13" name="Content Placeholder 4" descr="An-Inconvenient-Truth-HavenWorks-com-tv-blog.jpg"/>
          <p:cNvPicPr/>
          <p:nvPr/>
        </p:nvPicPr>
        <p:blipFill>
          <a:blip r:embed="rId1"/>
          <a:stretch/>
        </p:blipFill>
        <p:spPr>
          <a:xfrm>
            <a:off x="214200" y="1428840"/>
            <a:ext cx="4000680" cy="4681440"/>
          </a:xfrm>
          <a:prstGeom prst="rect">
            <a:avLst/>
          </a:prstGeom>
          <a:ln w="0">
            <a:noFill/>
          </a:ln>
        </p:spPr>
      </p:pic>
      <p:pic>
        <p:nvPicPr>
          <p:cNvPr id="614" name="Content Placeholder 5" descr="center_image.jpg"/>
          <p:cNvPicPr/>
          <p:nvPr/>
        </p:nvPicPr>
        <p:blipFill>
          <a:blip r:embed="rId2"/>
          <a:stretch/>
        </p:blipFill>
        <p:spPr>
          <a:xfrm>
            <a:off x="5105520" y="1428840"/>
            <a:ext cx="3824280" cy="4643280"/>
          </a:xfrm>
          <a:prstGeom prst="rect">
            <a:avLst/>
          </a:prstGeom>
          <a:ln w="0">
            <a:noFill/>
          </a:ln>
        </p:spPr>
      </p:pic>
      <p:pic>
        <p:nvPicPr>
          <p:cNvPr id="615" name="Rectangle 6" descr=""/>
          <p:cNvPicPr/>
          <p:nvPr/>
        </p:nvPicPr>
        <p:blipFill>
          <a:blip r:embed="rId3"/>
          <a:stretch/>
        </p:blipFill>
        <p:spPr>
          <a:xfrm>
            <a:off x="3773520" y="2895480"/>
            <a:ext cx="1768320" cy="11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7b9899"/>
                </a:solidFill>
                <a:latin typeface="Georgia"/>
              </a:rPr>
              <a:t>An Inconvenient Truth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17" name="Content Placeholder 4" descr="enviro%20gore.jpg"/>
          <p:cNvPicPr/>
          <p:nvPr/>
        </p:nvPicPr>
        <p:blipFill>
          <a:blip r:embed="rId1"/>
          <a:stretch/>
        </p:blipFill>
        <p:spPr>
          <a:xfrm>
            <a:off x="608040" y="1517760"/>
            <a:ext cx="3425760" cy="4389480"/>
          </a:xfrm>
          <a:prstGeom prst="rect">
            <a:avLst/>
          </a:prstGeom>
          <a:ln w="0">
            <a:noFill/>
          </a:ln>
        </p:spPr>
      </p:pic>
      <p:sp>
        <p:nvSpPr>
          <p:cNvPr id="618" name=""/>
          <p:cNvSpPr txBox="1"/>
          <p:nvPr/>
        </p:nvSpPr>
        <p:spPr>
          <a:xfrm>
            <a:off x="4800600" y="1371600"/>
            <a:ext cx="403848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Georgia"/>
              </a:rPr>
              <a:t>The theory put forward by the former vice president of the USA, Al Gore, states that:- 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Georgia"/>
              </a:rPr>
              <a:t>“</a:t>
            </a:r>
            <a:r>
              <a:rPr b="0" lang="en-GB" sz="2500" spc="-1" strike="noStrike">
                <a:solidFill>
                  <a:srgbClr val="000000"/>
                </a:solidFill>
                <a:latin typeface="Georgia"/>
              </a:rPr>
              <a:t>Global warming is caused by the greenhouse effect from man-made carbon dioxide in the atmosphere”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7b9899"/>
                </a:solidFill>
                <a:latin typeface="Georgia"/>
              </a:rPr>
              <a:t>The Greenhouse Effec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20" name="AIT Greenhouse effect and cartoon.wmv" descr=""/>
          <p:cNvPicPr/>
          <p:nvPr/>
        </p:nvPicPr>
        <p:blipFill>
          <a:blip r:embed="rId1"/>
          <a:stretch/>
        </p:blipFill>
        <p:spPr>
          <a:xfrm>
            <a:off x="142920" y="1571760"/>
            <a:ext cx="8858160" cy="48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restart="whenNotActive" nodeType="interactiveSeq" fill="hold">
                <p:stCondLst>
                  <p:cond evt="onClick">
                    <p:tgtEl>
                      <p:spTgt spid="620"/>
                    </p:tgtEl>
                  </p:cond>
                </p:stCondLst>
                <p:childTnLst>
                  <p:par>
                    <p:cTn id="43" fill="hold">
                      <p:stCondLst>
                        <p:cond evt="onClick">
                          <p:tgtEl>
                            <p:spTgt spid="620"/>
                          </p:tgtEl>
                        </p:cond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6" dur="1" fill="hold"/>
                                        <p:tgtEl>
                                          <p:spTgt spid="6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7b9899"/>
                </a:solidFill>
                <a:latin typeface="Georgia"/>
              </a:rPr>
              <a:t>Activity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2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0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Georgia"/>
              </a:rPr>
              <a:t>Sort the cards in front of you to explain the theory of man-made global warming.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7b9899"/>
                </a:solidFill>
                <a:latin typeface="Georgia"/>
              </a:rPr>
              <a:t>Temperature vs Carbon Dioxid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24" name="AIT Temp vs CO2 from ice cores.wmv" descr=""/>
          <p:cNvPicPr/>
          <p:nvPr/>
        </p:nvPicPr>
        <p:blipFill>
          <a:blip r:embed="rId1"/>
          <a:stretch/>
        </p:blipFill>
        <p:spPr>
          <a:xfrm>
            <a:off x="142920" y="1571760"/>
            <a:ext cx="8858160" cy="48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restart="whenNotActive" nodeType="interactiveSeq" fill="hold">
                <p:stCondLst>
                  <p:cond evt="onClick">
                    <p:tgtEl>
                      <p:spTgt spid="624"/>
                    </p:tgtEl>
                  </p:cond>
                </p:stCondLst>
                <p:childTnLst>
                  <p:par>
                    <p:cTn id="49" fill="hold">
                      <p:stCondLst>
                        <p:cond evt="onClick">
                          <p:tgtEl>
                            <p:spTgt spid="624"/>
                          </p:tgtEl>
                        </p:cond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2" dur="1" fill="hold"/>
                                        <p:tgtEl>
                                          <p:spTgt spid="6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7b9899"/>
                </a:solidFill>
                <a:latin typeface="Georgia"/>
              </a:rPr>
              <a:t>Disagreement Amongst Scientists?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26" name="AIT disagreement amongst scientists.wmv" descr=""/>
          <p:cNvPicPr/>
          <p:nvPr/>
        </p:nvPicPr>
        <p:blipFill>
          <a:blip r:embed="rId1"/>
          <a:stretch/>
        </p:blipFill>
        <p:spPr>
          <a:xfrm>
            <a:off x="142920" y="1571760"/>
            <a:ext cx="8858160" cy="48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restart="whenNotActive" nodeType="interactiveSeq" fill="hold">
                <p:stCondLst>
                  <p:cond evt="onClick">
                    <p:tgtEl>
                      <p:spTgt spid="626"/>
                    </p:tgtEl>
                  </p:cond>
                </p:stCondLst>
                <p:childTnLst>
                  <p:par>
                    <p:cTn id="55" fill="hold">
                      <p:stCondLst>
                        <p:cond evt="onClick">
                          <p:tgtEl>
                            <p:spTgt spid="626"/>
                          </p:tgtEl>
                        </p:cond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8" dur="1" fill="hold"/>
                                        <p:tgtEl>
                                          <p:spTgt spid="6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9T09:13:42Z</dcterms:created>
  <dc:creator>Greenfaulds High</dc:creator>
  <dc:description/>
  <dc:language>en-US</dc:language>
  <cp:lastModifiedBy>Stephen Day</cp:lastModifiedBy>
  <dcterms:modified xsi:type="dcterms:W3CDTF">2009-08-25T08:00:22Z</dcterms:modified>
  <cp:revision>8</cp:revision>
  <dc:subject/>
  <dc:title>The Big Debate</dc:title>
</cp:coreProperties>
</file>